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8E1-E576-4C61-9427-2DED3125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954-DC04-42EA-BA7A-8935973F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B2D-1493-4DE6-A053-8761AF29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730-25B0-4857-9923-465B2358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002F-DB72-4F11-9FAA-86C987CD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F809-5A8D-4053-AAC3-1581D15D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82E7-7378-4B04-B31C-D84E211F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8594-86FF-4B9C-B472-71650AD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54EA-A0D5-4FED-BA5E-649CED3A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794C-9CEB-49E6-8C4E-CF1487C9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300C-5617-4EF6-92B6-6DC0CB9E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BD2-D12D-4713-9FD7-951B4C3D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893B-7E36-401D-8E38-D9D4C90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A583-CD92-4EAD-81C3-5BB34FA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92C7-E54D-49C4-A7D1-BE8D335D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EAE-0B3E-42DF-863B-3858A188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2C37-7A61-422D-8902-BAB26B8F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97EE-2C0F-4AC3-9056-99A3597C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236C-B353-44D4-B2BC-2D696EB6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3C14-03ED-4C3A-BEAD-E86264C0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8727-0495-454B-AFA7-B7D7F64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B10D-70D0-4A68-B577-72B375AC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849-7E83-42EE-8733-D6FFEB2F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6D6B-B820-44CC-B26A-EB794447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5C67-E1B4-4662-941A-027FD4D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0180-79F6-4668-B7A4-1A50352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545B-4834-464C-BD49-1C70650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0953E-21CE-44C3-85C0-97AD84C2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EAC4-3314-4DDF-88DB-B4B1298E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1D5B-192E-40BA-B561-FE9CDF3C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BC4-8F86-4908-B43F-22929BCE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8B5-8D85-4FB7-9468-7CEBE4DB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4A7-54B0-4E8D-86E9-6BD1A4E7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B60-99E5-4559-BE4C-001BC6D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771-9500-42CD-8969-8DA24CEA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252-C1A0-4F45-949E-81217AB7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800" spc="-1" strike="noStrike" cap="all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385DD5-1283-42E8-9610-80A9E801B81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CA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CA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7113BA-7584-45AB-AB62-090F4B96170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DCFE6E-CAF0-4860-BD62-C58A5E1D686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Design Skill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50720" y="48769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: Shreya 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3430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roblem Statement 2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8511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30600" y="0"/>
            <a:ext cx="6186600" cy="685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3124080" y="4648320"/>
            <a:ext cx="601956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s: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use case is a description of a system’s behavior as it responds to a request that originates from outside of that system (Usually user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ther words, a use case describes "who" can do "what" with the system in ques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ML (Unified Modeling Language)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use case diagram in the Unified Modeling Language (UML) is a type of behavioral diagram defined by and created from a Use-case analysi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s purpose is to present a graphical overview of the functionality provided by a system in terms of actors, their goals (represented as use case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mponents of a Use-Case Diagram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-Ca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Acto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ctor specifies a role that some external entity adopts when interacting with the system directl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may represent a role played b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 us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nothe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 piece of hardwar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ors may be both at input and output ends of a use cas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Acto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5205240" cy="16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cribes all the services required or performed by the acto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610000" y="2753280"/>
            <a:ext cx="392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 Nam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Use Case Nam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Written in a ov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mple Nam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Oval 3"/>
          <p:cNvSpPr/>
          <p:nvPr/>
        </p:nvSpPr>
        <p:spPr>
          <a:xfrm>
            <a:off x="2971800" y="3733920"/>
            <a:ext cx="2514240" cy="837720"/>
          </a:xfrm>
          <a:prstGeom prst="ellipse">
            <a:avLst/>
          </a:prstGeom>
          <a:gradFill rotWithShape="0">
            <a:gsLst>
              <a:gs pos="0">
                <a:srgbClr val="a49451"/>
              </a:gs>
              <a:gs pos="100000">
                <a:srgbClr val="d5c489"/>
              </a:gs>
            </a:gsLst>
            <a:lin ang="8346000"/>
          </a:gradFill>
          <a:ln>
            <a:solidFill>
              <a:srgbClr val="998846"/>
            </a:solidFill>
            <a:round/>
          </a:ln>
          <a:effectLst>
            <a:outerShdw blurRad="190440" dir="2700000" dist="228593" rotWithShape="0" sy="9000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200400" y="3930120"/>
            <a:ext cx="205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giste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roblem Statement 1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200240" y="2394000"/>
            <a:ext cx="6743520" cy="23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38</TotalTime>
  <Application>LibreOffice/7.4.7.2$Linux_X86_64 LibreOffice_project/40$Build-2</Application>
  <AppVersion>15.0000</AppVersion>
  <Words>230</Words>
  <Paragraphs>33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58:53Z</dcterms:created>
  <dc:creator>Shreya Rawal</dc:creator>
  <dc:description/>
  <dc:language>en-US</dc:language>
  <cp:lastModifiedBy>Shreya Rawal</cp:lastModifiedBy>
  <dcterms:modified xsi:type="dcterms:W3CDTF">2009-03-30T16:37:04Z</dcterms:modified>
  <cp:revision>10</cp:revision>
  <dc:subject/>
  <dc:title>Design Ski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